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9FB-1E41-4A68-BE8E-90560442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5FE-D61D-4D98-B135-D415EB3E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C20-4F84-4A13-9407-E16817AD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C6D-5B01-48BA-B315-A91CB5B6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2558-48EA-495F-A8C9-098F3ADC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C8E6-16C9-4A60-BB06-6326B129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E6E6-C4A4-4E7F-8704-4D4EB6FA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9A15-4265-4990-B1F8-E1BEA72C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C8AE-D813-4549-8EEA-ACA01C53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C113-DB77-4D26-AEA6-889D84DE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5B03-9442-4BFE-AFBD-4F39C8B4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614-D524-41D9-9076-CB33FE44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DD14-70EE-4379-9266-309AC901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2C17-ED19-4249-94AB-BE703C2D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6538-BF73-4203-B02A-8E626507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6C8D-60A9-41B7-89BC-5F5CC06E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F66B-7CAF-40C9-972D-26AAA435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76F-82F3-4FD7-BF80-88DB768A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086-8104-4E87-837D-F9A28503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197-5046-4C04-8E9E-63179390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0AB-F599-4183-929B-5EA78F8A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728-4133-4361-A9D3-EAB292A6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D67-AB0A-40F4-9D83-9FF542E6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184-626E-4935-B52A-D36E5506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37C6-FC3D-48BC-8B1A-40A642B6F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980F-4722-4207-B1AC-F5D9320F9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msdn.microsoft.com/de-de/library/vstudio/bb399182(v=vs.100).aspx" TargetMode="External"/><Relationship Id="rId2" Type="http://schemas.openxmlformats.org/officeDocument/2006/relationships/hyperlink" Target="http://msdn.microsoft.com/de-de/library/vstudio/bb399182(v=vs.100).aspx" TargetMode="Externa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Kuchenbasar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bschlußprojekt von Bernd Schube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lfatraining Rost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odul C++ / Visual Programmierung mit Dot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feld 1"/>
          <p:cNvSpPr/>
          <p:nvPr/>
        </p:nvSpPr>
        <p:spPr>
          <a:xfrm>
            <a:off x="426960" y="382680"/>
            <a:ext cx="8242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estellungen und Proble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ür die Bestellungen sollte man nu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uswählen können, die auch vorhand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ind. Bei der Umsetzung in die ComboBoxen über den Index=Key hatte ich jedoch eines nicht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dacht bzw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fand dann erst durch Abstürze und Debugging herau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 den Tabellen können und sollen natürlich im Key Lücken sei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Auch wenn das ein Autowe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st (es können ja welche gelöscht werden).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 den ComboBoxen aber nich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ich mich bewußt für die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ariante über den ComboBox.SelectedIndex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ntschieden hab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weil die Fremdschlüssel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in de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eben Zahlen sind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nutzt man hingegen das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ComboBox.SelectedItem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, läuft es auf noch eine Umsetzung und vo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llem einen „ungeliebten“ String-Vergleich hina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abe ich das üb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zwei spiegelbildliche Dictionary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löst (Index &lt;-&gt; I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Grafik 2" descr="Projektmappe - Microsoft Visual Studio"/>
          <p:cNvPicPr/>
          <p:nvPr/>
        </p:nvPicPr>
        <p:blipFill>
          <a:blip r:embed="rId1"/>
          <a:srcRect l="0" t="14338" r="62223" b="21169"/>
          <a:stretch/>
        </p:blipFill>
        <p:spPr>
          <a:xfrm>
            <a:off x="738360" y="3559320"/>
            <a:ext cx="3454200" cy="2884320"/>
          </a:xfrm>
          <a:prstGeom prst="rect">
            <a:avLst/>
          </a:prstGeom>
          <a:ln w="0">
            <a:noFill/>
          </a:ln>
        </p:spPr>
      </p:pic>
      <p:pic>
        <p:nvPicPr>
          <p:cNvPr id="96" name="Grafik 3" descr="Projektmappe - Microsoft Visual Studio"/>
          <p:cNvPicPr/>
          <p:nvPr/>
        </p:nvPicPr>
        <p:blipFill>
          <a:blip r:embed="rId2"/>
          <a:srcRect l="0" t="12631" r="62592" b="21483"/>
          <a:stretch/>
        </p:blipFill>
        <p:spPr>
          <a:xfrm>
            <a:off x="4673520" y="3559320"/>
            <a:ext cx="34210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feld 1"/>
          <p:cNvSpPr/>
          <p:nvPr/>
        </p:nvSpPr>
        <p:spPr>
          <a:xfrm>
            <a:off x="426960" y="382680"/>
            <a:ext cx="8242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estellungen und Problem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e weitere Klippe gab es bei den vorrätige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für di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Ziel war es eigentlich nur, so viele auswählen zu lassen wie vorhanden (bei Neubestellu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m Testen stellt sich jedoch schnell heraus, daß das Ganze viel komplexer ist als vermute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il ma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i Bestellungsänderung eine Umbuchun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achen muß,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benso bei mehrfach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peichern, beim Wechsel des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sw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mit hatte ich eine selbst konstruierte Schwierigkeit, die mich viel Zeit beim Fehlersuch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kostet hat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es mir aber wert war, denn die </a:t>
            </a:r>
            <a:r>
              <a:rPr b="1" i="1" lang="de-DE" sz="1600" spc="-1" strike="noStrike">
                <a:solidFill>
                  <a:srgbClr val="ff0000"/>
                </a:solidFill>
                <a:latin typeface="Calibri"/>
              </a:rPr>
              <a:t>Kuchen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sollen ja verkauft und gegess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erden und nicht durch Buchungstricks verschwinden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ders als durch Abstürze und Probieren merkt man sich für später auch nicht,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 welch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Reihenfolg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man das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Maximum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und den aktuellen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Wert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des „Anzahl“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umericUpDow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stücken muß, wenn der „Vorrat“ durch Kuchenwechsel größer und vor allem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kleiner wi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Preis der Bestellung ist nur vorgeschlagen und kann dem Solidaritätsprinzip folgend nac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oben oder unten korrigiert wer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feld 1"/>
          <p:cNvSpPr/>
          <p:nvPr/>
        </p:nvSpPr>
        <p:spPr>
          <a:xfrm>
            <a:off x="426960" y="382680"/>
            <a:ext cx="82422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achträgliche Entwurfsentscheidung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s hat sich nachher als sinnvoll erwiesen, di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utowert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eys von zumindest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i Null beginnen zu lass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a im C++ Programm die Arrays/Listen beim 0.Element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ginnen. Somit gibt es die technischen Dummy-Sätze, was bei den ComboBoxen und z.B. beim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uerstellen viel Ärger erspart und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auch in Sprachen, die das 0.Element nicht kennen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üblich is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heißen sie 999999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n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D-Key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 der M: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habe ich gelassen, obwohl er auch bei meinem Entwur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die dataGridViewBestellungen nicht notwendi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äre.  Diese könnte trotzdem bestück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rd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glassen erfordert einen Projekt-Umbau: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-ID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-ID als gemeinsamen Primar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Key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etzen (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ie es die Wissenschaft verlang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 und somit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jede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as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r ein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j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e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orte zulass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e ich in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2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überprüfen konnte, würde das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zwingend auch eine Änderung d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Programm-Logik erforder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er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NEU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utton müßte analog zu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e extr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orm öffnen, die doppelt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rkennt und das Insert verweige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Die Plausibilitätsprüfung  würde reguläre Updates auch mit verhindern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Zugriff auf di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müßte überall im Programm auf 2 Keys,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ändert werd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Hauptsächlich aufgrund meiner Entscheidung, die Bestellungen komplett in der FormMa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zu verwalten ohne zweites Fenster, habe ich das aber nicht realisie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feld 1"/>
          <p:cNvSpPr/>
          <p:nvPr/>
        </p:nvSpPr>
        <p:spPr>
          <a:xfrm>
            <a:off x="426960" y="382680"/>
            <a:ext cx="824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Li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ser Punkt hat mir am meisten Spaß gemach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fach di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estellungen View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 ein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aTable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ringen und eine ansonsten leere Form m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em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aGridView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beliefern. Ich wollte eigentlich ein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istView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hmen, ging aber nich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rtieren nach den Spalten ist gleich inclusiv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Leider habe ich kein Beispiel zum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„richtigen“ Data Mappin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funden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(es soll da was geben, daß man die SQL Tabellen direkt als DataSource angeben kann?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feld 1"/>
          <p:cNvSpPr/>
          <p:nvPr/>
        </p:nvSpPr>
        <p:spPr>
          <a:xfrm>
            <a:off x="426960" y="382680"/>
            <a:ext cx="82962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Testen und Umbenenn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ch hatte mir für den Test genügend Zeit eingeplant, teilweise war das auch schon währe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er „agilen“ Entwicklung der Menge/Preis Problematik bei Kuchenwechsel gescheh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die Access-Datenbank nicht wie CSV-Dateien immer verworfen und bei Bedarf neu geles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rden, habe ich mir als Sicherungspunkt immer eine Kopie der kompletten MDB erstell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e mich einigermaßen zufriedenstellende Version mit den geplanten Funktionen is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Access11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is mir folgendes auffiel: Die Ke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FormMain)                 (dbAssistent)              (KuchenDB)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int n)  -&gt;  i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int n)  -&gt;  </a:t>
            </a:r>
            <a:r>
              <a:rPr b="1" lang="de-DE" sz="2000" spc="-1" strike="noStrike">
                <a:solidFill>
                  <a:srgbClr val="843c0c"/>
                </a:solidFill>
                <a:latin typeface="Calibri"/>
              </a:rPr>
              <a:t>num</a:t>
            </a:r>
            <a:r>
              <a:rPr b="1" lang="de-DE" sz="20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int n)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-&gt;  </a:t>
            </a:r>
            <a:r>
              <a:rPr b="0" lang="de-DE" sz="1600" spc="-1" strike="noStrike">
                <a:solidFill>
                  <a:srgbClr val="00b050"/>
                </a:solidFill>
                <a:latin typeface="Calibri"/>
              </a:rPr>
              <a:t>dict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u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[n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ah irgendwie komisch aus.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ie funktioniert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ohne Frag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ch hatte mich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nur bei den Benennungen vertan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mal oder mehrmal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nun tun? Umbenennen? Und riskieren, daß alles kaputt geht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lles waren Funktionen/Dictionary der Form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 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unktion(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);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s gab schätzungweise 16 Möglichkeiten, von denen nur 2 richtig wäre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Da ich gut im Zeitplan lag, sagte mir eine Stimme aus dem Dunke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Lächle und sei froh, es könnte schlimmer kommen…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feld 1"/>
          <p:cNvSpPr/>
          <p:nvPr/>
        </p:nvSpPr>
        <p:spPr>
          <a:xfrm>
            <a:off x="426960" y="382680"/>
            <a:ext cx="82422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Testen und Umbenenne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nd ich lächelte und war froh. Und siehe: es kam schlimmer </a:t>
            </a:r>
            <a:r>
              <a:rPr b="0" lang="de-DE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ach der Umbenennung stürzten die ComboBoxen und die Updates gnadenlos ab und all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Reparaturversuche scheiterten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, ich wußte nicht mehr, wie rum es nun richtig w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lso habe ich mich kurzerhand für Neuprogrammierung entschied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konsequenterweise alles, beginnend von den Dictionary bis zum endgültigen Aufruf nac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m Namensschema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dex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From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d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int id) entschieden, denn das „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“ hatte irgendwann einm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zum Verwechseln verleit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s Programm lief wieder auf Anhieb und zu meiner Zufriedenheit stabi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sofern ein Programmierer sein eigenes Programm komplex „endtesten“ darf, was eigentlich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jemand anderes tun sollt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Das Rele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eißt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rforderlich ist die im gleichen Ordner befindliche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.md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Grafik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QL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meinem vorherigen Alfatraining-Lehrgang wußte ich, daß die Computer hier ein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QL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erver 2012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stallation haben. Damals haben wir dort di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enbanken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odelliert und al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fache „Programmoberfläche“ Access-Formulare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nutz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keine Access-Tabellen sondern die originalen im SQL-Server per ODB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mich auf die Idee brachte, das nun auch mit C++/WindowsForms zu vers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ich keine Möglichkeit fand, die Access-Tabellen zu exportieren, habe ich zumindest di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abelle(n)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möglichst exakt nachmodellier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d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oolea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Datentyp heißt hi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Bi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s (automatisch erzeugte und von mir editierte)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kript, um die Datenbank zu erzeu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eißt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Test-HRO23.sq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a ich leider an diesen Rechner gebunden bi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Verbindungsstring im dbAssistenten müßte hier angepaßt werden, wenn das auf ein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deren Computer ausgeführt werden soll (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Server1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in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Grafik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feld 1"/>
          <p:cNvSpPr/>
          <p:nvPr/>
        </p:nvSpPr>
        <p:spPr>
          <a:xfrm>
            <a:off x="426960" y="382680"/>
            <a:ext cx="8242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QL Serve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Programmanpassungen waren erstaunlich einfach, dank der Programmstruktur in Modul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ben dem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erbindungsstri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muß ma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ll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OleDb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Commands, Reader, Connectio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sw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urch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q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rsetz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mal hieß ein Typ „Int“ oder „BigInt“ statt „Integer“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Leider müssen die Strings für die SQL-Kommandos beim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DateTime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oolea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geringfügi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gepaßt werden (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CAST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tatt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cvdate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und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mit Hochkomma statt ohn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nach konnte das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Server1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Programm die Verbindung herstellen und ein Update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unktionierte tadellos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Grafik 3" descr=""/>
          <p:cNvPicPr/>
          <p:nvPr/>
        </p:nvPicPr>
        <p:blipFill>
          <a:blip r:embed="rId1"/>
          <a:srcRect l="5278" t="42429" r="56945" b="36833"/>
          <a:stretch/>
        </p:blipFill>
        <p:spPr>
          <a:xfrm>
            <a:off x="4741920" y="3632040"/>
            <a:ext cx="3927240" cy="2202120"/>
          </a:xfrm>
          <a:prstGeom prst="rect">
            <a:avLst/>
          </a:prstGeom>
          <a:ln w="0">
            <a:noFill/>
          </a:ln>
        </p:spPr>
      </p:pic>
      <p:pic>
        <p:nvPicPr>
          <p:cNvPr id="107" name="Grafik 5" descr=""/>
          <p:cNvPicPr/>
          <p:nvPr/>
        </p:nvPicPr>
        <p:blipFill>
          <a:blip r:embed="rId2"/>
          <a:srcRect l="6112" t="43087" r="58425" b="33869"/>
          <a:stretch/>
        </p:blipFill>
        <p:spPr>
          <a:xfrm>
            <a:off x="541440" y="3632040"/>
            <a:ext cx="3929040" cy="2522520"/>
          </a:xfrm>
          <a:prstGeom prst="rect">
            <a:avLst/>
          </a:prstGeom>
          <a:ln w="0">
            <a:noFill/>
          </a:ln>
        </p:spPr>
      </p:pic>
      <p:sp>
        <p:nvSpPr>
          <p:cNvPr id="108" name="Ellipse 8"/>
          <p:cNvSpPr/>
          <p:nvPr/>
        </p:nvSpPr>
        <p:spPr>
          <a:xfrm>
            <a:off x="1595520" y="4343400"/>
            <a:ext cx="1008000" cy="43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llipse 9"/>
          <p:cNvSpPr/>
          <p:nvPr/>
        </p:nvSpPr>
        <p:spPr>
          <a:xfrm>
            <a:off x="7662960" y="4813200"/>
            <a:ext cx="473040" cy="309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llipse 10"/>
          <p:cNvSpPr/>
          <p:nvPr/>
        </p:nvSpPr>
        <p:spPr>
          <a:xfrm>
            <a:off x="5875200" y="4770360"/>
            <a:ext cx="652680" cy="393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llipse 11"/>
          <p:cNvSpPr/>
          <p:nvPr/>
        </p:nvSpPr>
        <p:spPr>
          <a:xfrm>
            <a:off x="7392960" y="4343400"/>
            <a:ext cx="1008000" cy="43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llipse 12"/>
          <p:cNvSpPr/>
          <p:nvPr/>
        </p:nvSpPr>
        <p:spPr>
          <a:xfrm>
            <a:off x="5697360" y="4343400"/>
            <a:ext cx="711360" cy="439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feld 13"/>
          <p:cNvSpPr/>
          <p:nvPr/>
        </p:nvSpPr>
        <p:spPr>
          <a:xfrm>
            <a:off x="4741920" y="3025800"/>
            <a:ext cx="11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QL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feld 14"/>
          <p:cNvSpPr/>
          <p:nvPr/>
        </p:nvSpPr>
        <p:spPr>
          <a:xfrm>
            <a:off x="558720" y="302580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feld 1"/>
          <p:cNvSpPr/>
          <p:nvPr/>
        </p:nvSpPr>
        <p:spPr>
          <a:xfrm>
            <a:off x="426960" y="382680"/>
            <a:ext cx="8506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erwaltung eines Kuchenbasa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it C++ / Visual Studio / Windows Forms Template und Access Datenban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fang des relationalen Modells ist nicht so wichti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chtiger war das Kennenlernen visueller Komponent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Aufteilung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(3 Datenbanken in einer Form sind schon eine Herausforderung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ie man nur mit sauberem Design beherrsch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ie Verbindung zur Datenbank mit den gelernten Methoden und Mitteln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(3 Schichtenmodell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atenbanken-Assistent, der später den Übergang von Access zu SQL-Server gestatten sol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robe Zeitplanung (10 Tage zur Verfügu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ennenlernen der Oberfläche und Design mit übersichtlicher Aufteilung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teuerung der Eingaben, Buttons fü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peichern, Neu und Löschen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lltext-Filter als besonderen Wunsch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rstellung , Speicherung verschiedener Datentypen: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Integer, Double, Boolean, Date, String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stellen von Dateien auf SQL (Access)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bauen der M:N Logik für die Bestellungen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fache Plausibilitäten und Berechnung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est und Fehlersuche (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okumentation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alls zeitlich möglich, zweite Variante über SQL-Server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Falls zeitlich möglich, andere Designs von Microsoft anschauen per MSDN Beispie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feld 1"/>
          <p:cNvSpPr/>
          <p:nvPr/>
        </p:nvSpPr>
        <p:spPr>
          <a:xfrm>
            <a:off x="426960" y="382680"/>
            <a:ext cx="81248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Fazi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ch habe bei dem Projekt was gelern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s war mir wichtiger als ein super schickes Design oder Performanz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Höhepunkte für mich war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jeweils der Übergang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on CSV auf SQL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bzw.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on Access auf SQL-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(war aufgrund der modularen Struktur relativ problemlos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ie Sache mit den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Dictionary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und de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Volltext-Filter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owie das Übergeben der Datenverwaltung von Form zu Form (gewußt wie </a:t>
            </a:r>
            <a:r>
              <a:rPr b="1" lang="de-DE" sz="1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ter Stichwort des Microsoft Entity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de-DE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msdn.microsoft.com/de-de/library/vstudio/bb399182(v=vs.100).asp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teht angeblich ein Beispiel, das wenn man alle Schritte nachvollzieh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in C# Programm mit SQL Tabellen erstellt (habe ich im Rahmen des Projektes nicht geschaff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SQL Server 3 (nachträglic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m d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ergleich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zu haben (das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Java-Programm aus dem späteren Kur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welches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zunächs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uf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QLit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lief und dann fü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MySQL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geklont wurde und letztlich auch je eine Variante für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QL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Server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Oracle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beka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, habe ich auch die komplette Datenbank für dieses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C++ Program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zum SQL Server nachmodellier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Leider habe ich außer CSV keinerlei Austauschformate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-möglichkeiten gefund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- Das Sqript für die Datenbank heißt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BasarVC.sq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das lauffähige Programm ist d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Server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 meiner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 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oll das Programm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einen anderen SQL Serv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aufen, müßte noch der Verbindungsstring im DB-Assistenten angepaßt werd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eben den bereits beschriebenen Programmänderungen mußte auch noch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für di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Währungs-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felder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tat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etDoubl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neu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etDecima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erwende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werden,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as mir neben ein paar Abstürz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reichlich graue Haare bescher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Grafik 2" descr="Access - Kuchenbasar : Datenbank- D:\alfatraining\c-projekte\Beschreibung\Kuchenbasar.mdb (Access 2002 - 2003-Dateiformat)"/>
          <p:cNvPicPr/>
          <p:nvPr/>
        </p:nvPicPr>
        <p:blipFill>
          <a:blip r:embed="rId1"/>
          <a:srcRect l="972" t="9693" r="24166" b="43240"/>
          <a:stretch/>
        </p:blipFill>
        <p:spPr>
          <a:xfrm>
            <a:off x="939960" y="507960"/>
            <a:ext cx="6845040" cy="1892520"/>
          </a:xfrm>
          <a:prstGeom prst="rect">
            <a:avLst/>
          </a:prstGeom>
          <a:ln w="0">
            <a:noFill/>
          </a:ln>
        </p:spPr>
      </p:pic>
      <p:pic>
        <p:nvPicPr>
          <p:cNvPr id="86" name="Grafik 3" descr="Access - Kuchenbasar : Datenbank- D:\alfatraining\c-projekte\Beschreibung\Kuchenbasar.mdb (Access 2002 - 2003-Dateiformat)"/>
          <p:cNvPicPr/>
          <p:nvPr/>
        </p:nvPicPr>
        <p:blipFill>
          <a:blip r:embed="rId2"/>
          <a:srcRect l="15186" t="16977" r="20927" b="48182"/>
          <a:stretch/>
        </p:blipFill>
        <p:spPr>
          <a:xfrm>
            <a:off x="1441440" y="2700360"/>
            <a:ext cx="5842080" cy="1701720"/>
          </a:xfrm>
          <a:prstGeom prst="rect">
            <a:avLst/>
          </a:prstGeom>
          <a:ln w="0">
            <a:noFill/>
          </a:ln>
        </p:spPr>
      </p:pic>
      <p:pic>
        <p:nvPicPr>
          <p:cNvPr id="87" name="Grafik 4" descr="Access - Kuchenbasar : Datenbank- D:\alfatraining\c-projekte\Beschreibung\Kuchenbasar.mdb (Access 2002 - 2003-Dateiformat)"/>
          <p:cNvPicPr/>
          <p:nvPr/>
        </p:nvPicPr>
        <p:blipFill>
          <a:blip r:embed="rId3"/>
          <a:srcRect l="2409" t="14634" r="0" b="44629"/>
          <a:stretch/>
        </p:blipFill>
        <p:spPr>
          <a:xfrm>
            <a:off x="152280" y="4452840"/>
            <a:ext cx="89233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feld 1"/>
          <p:cNvSpPr/>
          <p:nvPr/>
        </p:nvSpPr>
        <p:spPr>
          <a:xfrm>
            <a:off x="426960" y="382680"/>
            <a:ext cx="82422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Einige Entwurfsentscheidung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rei Reiter, für jede Datenbank ei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sollen in der FormMain selbst verwaltet wer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bekommen je eine eigene Update-Fo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och eine Listen-Fo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lltext-Filter direkt wirkend auf die Bestückung der dataGridView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öglichst alle der Datentypen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Integer, Double, Boolean, Date, String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ch verwen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ccess soll referentielle Integrität (auch beim Löschen!) übernehm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 Einfügen/Verändern sollen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die ComboBoxen / Zahleneingaben nur das zulassen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was auch tatsächlich aktuell vorhanden is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z.B. welch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/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wieviel davon usw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Da es eine Soli-Veranstaltung sein soll, kann man den Preis, der aufgrund Anzahl*Grundpreis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vorgeschlagen wird, trotzdem nach oben/unten korrigier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Elem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ür jede Tabell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 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eigene Klassen und Forms (2-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zu FormMain, Liste, Interface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iehe Übersic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rafik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etzu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der Verwaltung  einer „Tabelle“ (am Anfang noch eine CSV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mit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Abspeichern, Lesen, auf dem Bildschirm darstellen, Verändern, Löschen, Ne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llen 3 werde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eider war das doch aufwendiger als vermutet, das Programm wächst schnell an u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man droht den Überblick zu verlieren. Namenssystematik und modulare Zerlegung si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onnöten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Leider habe ich keinen Weg gefunden, die ganzen visuellen Elemente der FormMa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rgendwie zu verstecken, die nerven/stör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Zudem ist es gar nicht mal so ganz ungefährlich, sich beim Umbenennen und Vervielfältigen au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ntellisense zu verlass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enn es gibt viele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„falsche Freunde“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die Groß/Kleinschreibung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n Klassen/Variablen usw. teils gleichen Namensstamms erfordert viel Konzentr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feld 1"/>
          <p:cNvSpPr/>
          <p:nvPr/>
        </p:nvSpPr>
        <p:spPr>
          <a:xfrm>
            <a:off x="426960" y="382680"/>
            <a:ext cx="8242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etzung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ch bin den Weg gegangen, erst 3 „Tabellen“ vollständig zu integrieren und den Ablauf zu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esten, und habe dann nach SQL/Access umgestellt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Hätte man es anders herum gemacht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(erst eine Tabelle vollständig, dann 3x und den Ablauf bauen)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würde  es m.E. noch meh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Probleme geb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Das Ganze hat mich leider viel mehr Zeit gekostet als geplant </a:t>
            </a:r>
            <a:r>
              <a:rPr b="0" lang="de-DE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aber ein Ziel des Projek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ar ja auch, das Verfahren auszuprobieren und dabei zu lern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ndererseits: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ich konnte es auch genießen, mal die Zeit zu haben, z.B.</a:t>
            </a: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 eine Stunde lang m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dem Debugger darüber zu streiten, an welcher Zeile der Cursor nach dem letzten Update, Insert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ff0000"/>
                </a:solidFill>
                <a:latin typeface="Calibri"/>
              </a:rPr>
              <a:t>oder Delete stehen muß.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Und warum dies bei verändertem Filter und sich daraus ergebend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erlängerung oder Verkleinerung der Anzeige auch noch gelten sol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e man jetzt 4 oder noch mehr Tabellen integrieren soll, ist mir schwer vorstellbar – ich denk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a muß es noch ganz andere Programm-Designs und funktionale Entwürfe geb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Ein funktionierendes Testprogramm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dieser Projektphase wäre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test4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(mit 3 CSV-Dateien, die auch gelesen/gespeichert werden = sehr nützlich zum Ausprobieren, wenn man auch schon mal alle Sätze löschen will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feld 1"/>
          <p:cNvSpPr/>
          <p:nvPr/>
        </p:nvSpPr>
        <p:spPr>
          <a:xfrm>
            <a:off x="426960" y="382680"/>
            <a:ext cx="8242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tellen nach SQ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ch habe das schrittweise erst für eine Tabelle 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gemacht, und auch in einem eigen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Testprogramm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KuchenAccess1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 meiner </a:t>
            </a:r>
            <a:r>
              <a:rPr b="1" lang="de-DE" sz="1600" spc="-1" strike="noStrike">
                <a:solidFill>
                  <a:srgbClr val="00b050"/>
                </a:solidFill>
                <a:latin typeface="Calibri"/>
              </a:rPr>
              <a:t>Projektmap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il, mir war schon klar, daß hier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iele Umbauten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f mich zu kamen und ich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e ganze Weil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ohne kompilierfähiges Programm</a:t>
            </a:r>
            <a:r>
              <a:rPr b="0" lang="de-DE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uskommen muß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chwierigkeiten gab es mit der AddWithValue-Variante des OleDbCommands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Ich hab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irklich sehr lange gesucht und debuggt, es gab auch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scheinbar keine Syntaxfehler in de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erzeugten SQL-Anweisung, nur wurden eben nie Zeilen upgedatet.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Leider konnte man di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QL-Anweisung auch nie komplett sehen und es gab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keine qualifizierte Fehlermeldung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wie ich z.B.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SQLSTATE vom DB2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her kenne). Somit blieb das Zusammenbauen der Anweisu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über String, was sich dann als enorm nützlich beim Debuggen und später beim Versuch 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QL-Server erwi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feld 1"/>
          <p:cNvSpPr/>
          <p:nvPr/>
        </p:nvSpPr>
        <p:spPr>
          <a:xfrm>
            <a:off x="426960" y="382680"/>
            <a:ext cx="8242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Umstellen nach SQL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Ein weiteres Problem waren die DateTime-Wer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ie fü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Access mit der cvdate Funk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gecastet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werden müssen, wie mir nach mühseligem Probieren ein Tip aus dem Internet verri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Interessant fand ich in dieser Projektphase, dann Programme mit gemischt SQL-Tabelle erst nur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für den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Kuch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, die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Gäs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de-DE" sz="1600" spc="-1" strike="noStrike">
                <a:solidFill>
                  <a:srgbClr val="ff0000"/>
                </a:solidFill>
                <a:latin typeface="Calibri"/>
              </a:rPr>
              <a:t>Bestellungen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noch auf CSV-Datei zu haben. Das schrittweis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Ersetzen ging dann doch relativ unproblematis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iel Spaß gemacht hat mir hier, daß mein Volltextsuchen-Filter immer noch funktionier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Und der Umgang mit den visuellen Kontrollelementen für 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Integer, Double, Boolean, D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Sowie die Unterscheidung in nur Anzeige über Textbox bzw. Änderung über eben jene Elem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Von der Struktur her bemerkenswert fand ich ebenso, daß man die gesamte Verwaltu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(Liste bei CSV, dbAssistent bei DB2) 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von Form zu Form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übergeben konnte (</a:t>
            </a:r>
            <a:r>
              <a:rPr b="1" lang="de-DE" sz="1600" spc="-1" strike="noStrike">
                <a:solidFill>
                  <a:srgbClr val="002060"/>
                </a:solidFill>
                <a:latin typeface="Calibri"/>
              </a:rPr>
              <a:t>und mußte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06:50:27Z</dcterms:created>
  <dc:creator>Alfa</dc:creator>
  <dc:description/>
  <dc:language>en-US</dc:language>
  <cp:lastModifiedBy>alfware Bernd Schubert</cp:lastModifiedBy>
  <dcterms:modified xsi:type="dcterms:W3CDTF">2015-04-21T21:59:15Z</dcterms:modified>
  <cp:revision>151</cp:revision>
  <dc:subject/>
  <dc:title>Festival</dc:title>
</cp:coreProperties>
</file>